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AE2B-B014-4BDE-A2A3-76DDAEAC4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84E4-D521-4142-898D-5E44BBD4B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ED0C-7673-40B6-BC87-A54D24886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788A-CA02-4D67-9439-CBCBB67C9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04F2-DC33-4F6E-B73D-F523C5A93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71B2-D0B2-4485-84E3-A8A4E8EE6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8473-9096-4162-9194-0DF6F40DB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BDBB-F89A-482E-A295-BE90A22B8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C769-13CA-4D15-8197-BD52645A6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53AB-911D-4E0A-B31F-AF1D50204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0E71-2FBD-488F-B788-5891DA4D7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1297-50F9-452F-A044-D5B11435E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0FEDD-3CA0-435C-B873-F3E363BFF06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Garnock Valley Ex Presidents"/>
          <p:cNvPicPr/>
          <p:nvPr/>
        </p:nvPicPr>
        <p:blipFill>
          <a:blip r:embed="rId1"/>
          <a:stretch/>
        </p:blipFill>
        <p:spPr>
          <a:xfrm>
            <a:off x="452520" y="285840"/>
            <a:ext cx="1206360" cy="11937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Tam O'Shanter Club"/>
          <p:cNvPicPr/>
          <p:nvPr/>
        </p:nvPicPr>
        <p:blipFill>
          <a:blip r:embed="rId2"/>
          <a:stretch/>
        </p:blipFill>
        <p:spPr>
          <a:xfrm>
            <a:off x="2238480" y="285840"/>
            <a:ext cx="987480" cy="1266840"/>
          </a:xfrm>
          <a:prstGeom prst="rect">
            <a:avLst/>
          </a:prstGeom>
          <a:ln w="0">
            <a:noFill/>
          </a:ln>
        </p:spPr>
      </p:pic>
      <p:sp>
        <p:nvSpPr>
          <p:cNvPr id="43" name="Text Box 8"/>
          <p:cNvSpPr/>
          <p:nvPr/>
        </p:nvSpPr>
        <p:spPr>
          <a:xfrm>
            <a:off x="0" y="148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ARNOCK  VALLEY  EX  PRESIDENTS     TAM  O’SHANTER  TOUR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4305240" y="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TRICT 19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6T18:56:55Z</dcterms:created>
  <dc:creator>HP authorized customer</dc:creator>
  <dc:description/>
  <dc:language>en-US</dc:language>
  <cp:lastModifiedBy>John</cp:lastModifiedBy>
  <dcterms:modified xsi:type="dcterms:W3CDTF">2010-02-14T14:26:20Z</dcterms:modified>
  <cp:revision>7</cp:revision>
  <dc:subject/>
  <dc:title>Slide 1</dc:title>
</cp:coreProperties>
</file>